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F296-E0FA-40E6-B0C5-9843D7FE4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30D1-5531-42FB-B9A3-343F1BDDA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5975-6F92-4E4B-849B-FE209906A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A710-3F63-463A-8BC0-DD81B434C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BC97-E025-46FC-9FE3-AB7C49198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1EB9-1874-44BE-9171-594AA062F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9B1F-964C-4379-90BA-D5FEBA8CD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846F-5BEA-40DF-AA02-D3842469A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9ADC-2F17-49A3-A7F1-5C6641EED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0E4A-9958-48C4-BFD9-6428C7F09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38FB-C592-41AE-A300-22B8E16BF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B108-3599-4A13-BB07-E65DB23A1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4A81641-8384-4093-8AA5-BF23F4404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6524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6524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8888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68076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8240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58520" y="5601240"/>
            <a:ext cx="1762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        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Mary Anne Brelin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Eagle Energy Partn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48520" y="5342040"/>
            <a:ext cx="1508040" cy="45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1944000"/>
            <a:ext cx="78483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Side Working Group Up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M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mand Side Working Group Agend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1277" t="26878" r="20873" b="45627"/>
          <a:stretch/>
        </p:blipFill>
        <p:spPr>
          <a:xfrm>
            <a:off x="214200" y="998640"/>
            <a:ext cx="8229600" cy="37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C1A2-6FF8-45F0-8E9F-69DCD4ECE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1074240"/>
            <a:ext cx="838224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WMS to affirm Chair and Vice Chairs for 200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6524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rm Mary Anne Brelinsky as Chai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-11448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Lehman Brothers (REP/Q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6524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rm Nelson Nease as Co-Vice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-11448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Nucor Steel (Industrial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6524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rm Timothy Carter as Co-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-11448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Constellation New Energy (REP/Q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0520" y="403920"/>
            <a:ext cx="709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ir and Vice Chairs fo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5345-6F17-496E-A355-889D77AA9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8 DSWG Goal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8240" y="1074600"/>
            <a:ext cx="86724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7B9E-E472-439F-96FE-1757B211ED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Event Summar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4200" y="998640"/>
            <a:ext cx="7848720" cy="50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of Events and System Summa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414"/>
              </a:spcBef>
              <a:spcAft>
                <a:spcPts val="41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ystem loses about 1022 MW of Generation Resources at about 01: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414"/>
              </a:spcBef>
              <a:spcAft>
                <a:spcPts val="41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ggers a potential NERC Reportable DCS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414"/>
              </a:spcBef>
              <a:spcAft>
                <a:spcPts val="41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Operator makes a hot line call to all QSEs and issues a VDI to deploy all LaaRs that are supplying R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414"/>
              </a:spcBef>
              <a:spcAft>
                <a:spcPts val="41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 QSEs have LaaR RRS obligations which total 1150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414"/>
              </a:spcBef>
              <a:spcAft>
                <a:spcPts val="41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icial start time for the deployment is 01:56:22 which coincides with the end of the Operator’s I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414"/>
              </a:spcBef>
              <a:spcAft>
                <a:spcPts val="41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LaaR Response at 10 minute mark is 1051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414"/>
              </a:spcBef>
              <a:spcAft>
                <a:spcPts val="41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aRs reach 95% of system requirement at 16 minutes 20 seco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8913-8C53-46E5-9A78-3D2ED44777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Event December 1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Deployment Timelin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6108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639B-8161-4BD7-966E-D151CB972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Load Shea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8240" y="990720"/>
            <a:ext cx="806760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70CA-76B4-467A-B7E0-85B4B88023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hedule Meetings for 2008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160" y="1150560"/>
            <a:ext cx="813276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spcAft>
                <a:spcPts val="751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two DSWG meetings for 2008 are currently schedul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624"/>
              </a:spcBef>
              <a:spcAft>
                <a:spcPts val="62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 March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624"/>
              </a:spcBef>
              <a:spcAft>
                <a:spcPts val="62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 May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2F58-747A-443D-B80F-ADDD446A5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 Anne Brelinsky</cp:lastModifiedBy>
  <dcterms:modified xsi:type="dcterms:W3CDTF">2008-01-15T15:23:38Z</dcterms:modified>
  <cp:revision>81</cp:revision>
  <dc:subject/>
  <dc:title>DSWG Update to WMS</dc:title>
</cp:coreProperties>
</file>